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89F6B-9C1F-4613-9AF3-F079EF6A0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5BFF2-B26D-4945-849C-E2E2466A9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188D0-C466-45CE-9543-F7A6001B6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1782F-F599-4D28-8403-8B66B7B83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6B943-F191-47AE-94B1-6691537BB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ACA5A-42F5-4FB2-8FF7-0DA9EE14D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AD302-5B59-473B-B68D-32D1D00E2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7D5FC-8423-4785-9340-72C1D87B6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52410-578B-42FF-B9F7-4C961E468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1B728-4F43-4333-B890-516EFF375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8BEFD-6861-44D1-AABF-6F0938994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D548C-7F4C-4568-AE56-BC6C52970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533520" y="6172200"/>
            <a:ext cx="2895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ＭＳ Ｐゴシック"/>
              </a:rPr>
              <a:t>Educational Research: Competencies for Analysis and Application, 9</a:t>
            </a:r>
            <a:r>
              <a:rPr b="0" i="1" lang="en-US" sz="1000" spc="-1" strike="noStrike" baseline="30000">
                <a:solidFill>
                  <a:srgbClr val="000000"/>
                </a:solidFill>
                <a:latin typeface="Tahoma"/>
                <a:ea typeface="ＭＳ Ｐゴシック"/>
              </a:rPr>
              <a:t>th</a:t>
            </a:r>
            <a:r>
              <a:rPr b="0" i="1" lang="en-US" sz="1000" spc="-1" strike="noStrike">
                <a:solidFill>
                  <a:srgbClr val="000000"/>
                </a:solidFill>
                <a:latin typeface="Tahoma"/>
                <a:ea typeface="ＭＳ Ｐゴシック"/>
              </a:rPr>
              <a:t>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Gay, Mills, &amp; Airasian</a:t>
            </a:r>
            <a:endParaRPr b="0" lang="en-US" sz="1000" spc="-1" strike="noStrike">
              <a:solidFill>
                <a:srgbClr val="000000"/>
              </a:solidFill>
              <a:latin typeface="Arial"/>
            </a:endParaRPr>
          </a:p>
        </p:txBody>
      </p:sp>
      <p:sp>
        <p:nvSpPr>
          <p:cNvPr id="3" name=""/>
          <p:cNvSpPr/>
          <p:nvPr/>
        </p:nvSpPr>
        <p:spPr>
          <a:xfrm>
            <a:off x="5638680" y="61563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2009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
          <p:cNvSpPr/>
          <p:nvPr/>
        </p:nvSpPr>
        <p:spPr>
          <a:xfrm>
            <a:off x="4343400" y="61722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CA87-3835-462E-ABB5-B1D8171F461F}"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533520" cy="6858000"/>
          </a:xfrm>
          <a:prstGeom prst="rect">
            <a:avLst/>
          </a:prstGeom>
          <a:ln w="0">
            <a:noFill/>
          </a:ln>
        </p:spPr>
      </p:pic>
      <p:pic>
        <p:nvPicPr>
          <p:cNvPr id="6" name="" descr=""/>
          <p:cNvPicPr/>
          <p:nvPr/>
        </p:nvPicPr>
        <p:blipFill>
          <a:blip r:embed="rId3"/>
          <a:stretch/>
        </p:blipFill>
        <p:spPr>
          <a:xfrm>
            <a:off x="7861320" y="6134040"/>
            <a:ext cx="1130400" cy="419040"/>
          </a:xfrm>
          <a:prstGeom prst="rect">
            <a:avLst/>
          </a:prstGeom>
          <a:ln w="0">
            <a:noFill/>
          </a:ln>
        </p:spPr>
      </p:pic>
      <p:pic>
        <p:nvPicPr>
          <p:cNvPr id="7" name="" descr=""/>
          <p:cNvPicPr/>
          <p:nvPr/>
        </p:nvPicPr>
        <p:blipFill>
          <a:blip r:embed="rId4">
            <a:lum bright="70000" contrast="-70000"/>
          </a:blip>
          <a:stretch/>
        </p:blipFill>
        <p:spPr>
          <a:xfrm>
            <a:off x="1143000" y="609480"/>
            <a:ext cx="7848720" cy="542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83808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6" name=""/>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3237840" y="5334120"/>
            <a:ext cx="2416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tle, Edi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2009 Pearson Education, Inc.</a:t>
            </a:r>
            <a:br>
              <a:rPr sz="1200"/>
            </a:br>
            <a:r>
              <a:rPr b="0" lang="en-US" sz="1200" spc="-1" strike="noStrike">
                <a:solidFill>
                  <a:srgbClr val="000000"/>
                </a:solidFill>
                <a:latin typeface="Tahoma"/>
              </a:rPr>
              <a:t>All rights reserved.</a:t>
            </a:r>
            <a:endParaRPr b="0" lang="en-US" sz="1200" spc="-1" strike="noStrike">
              <a:solidFill>
                <a:srgbClr val="000000"/>
              </a:solidFill>
              <a:latin typeface="Arial"/>
            </a:endParaRPr>
          </a:p>
        </p:txBody>
      </p:sp>
      <p:pic>
        <p:nvPicPr>
          <p:cNvPr id="48" name="" descr=""/>
          <p:cNvPicPr/>
          <p:nvPr/>
        </p:nvPicPr>
        <p:blipFill>
          <a:blip r:embed="rId3"/>
          <a:stretch/>
        </p:blipFill>
        <p:spPr>
          <a:xfrm>
            <a:off x="3886200" y="628668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Arial"/>
            </a:endParaRPr>
          </a:p>
        </p:txBody>
      </p:sp>
      <p:sp>
        <p:nvSpPr>
          <p:cNvPr id="8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8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F90C-9D35-4D87-BC4C-0B11F8D552E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5:</a:t>
            </a:r>
            <a:r>
              <a:rPr b="0" lang="en-US" sz="3600" spc="-1" strike="noStrike">
                <a:solidFill>
                  <a:srgbClr val="333399"/>
                </a:solidFill>
                <a:latin typeface="Tahoma"/>
              </a:rPr>
              <a:t> Selecting a Sample</a:t>
            </a:r>
            <a:endParaRPr b="0" lang="en-US" sz="3600" spc="-1" strike="noStrike">
              <a:solidFill>
                <a:srgbClr val="333399"/>
              </a:solidFill>
              <a:latin typeface="Tahoma"/>
            </a:endParaRPr>
          </a:p>
        </p:txBody>
      </p:sp>
      <p:sp>
        <p:nvSpPr>
          <p:cNvPr id="127" name="PlaceHolder 2"/>
          <p:cNvSpPr>
            <a:spLocks noGrp="1"/>
          </p:cNvSpPr>
          <p:nvPr>
            <p:ph/>
          </p:nvPr>
        </p:nvSpPr>
        <p:spPr>
          <a:xfrm>
            <a:off x="1219320" y="1905120"/>
            <a:ext cx="6858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iv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sampling, and distinguish between samples and population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random sampling, and explain how to select a sample using four random sampling techniqu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nonrandom sampling, and explain how to select a sample using three nonrandom sampling techniqu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60912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eps in Simple Random Sampling</a:t>
            </a:r>
            <a:endParaRPr b="0" lang="en-US" sz="3600" spc="-1" strike="noStrike">
              <a:solidFill>
                <a:srgbClr val="333399"/>
              </a:solidFill>
              <a:latin typeface="Tahoma"/>
            </a:endParaRPr>
          </a:p>
        </p:txBody>
      </p:sp>
      <p:sp>
        <p:nvSpPr>
          <p:cNvPr id="145"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selected number look at only the necessary number of digits.</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that is selected represents that person in the population.</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 to the next number in the column and repeat steps 6 and 7.</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ndom Sampling Example</a:t>
            </a:r>
            <a:endParaRPr b="0" lang="en-US" sz="3600" spc="-1" strike="noStrike">
              <a:solidFill>
                <a:srgbClr val="333399"/>
              </a:solidFill>
              <a:latin typeface="Tahoma"/>
            </a:endParaRPr>
          </a:p>
        </p:txBody>
      </p:sp>
      <p:sp>
        <p:nvSpPr>
          <p:cNvPr id="147" name="PlaceHolder 2"/>
          <p:cNvSpPr>
            <a:spLocks noGrp="1"/>
          </p:cNvSpPr>
          <p:nvPr>
            <p:ph/>
          </p:nvPr>
        </p:nvSpPr>
        <p:spPr>
          <a:xfrm>
            <a:off x="1143000" y="17524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e are interested in selecting a random sample of participants for a study of students’ nutritio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ndom Sampling Example</a:t>
            </a:r>
            <a:endParaRPr b="0" lang="en-US" sz="36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and define the population:</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opulation is middle school children in the school district in which we live.</a:t>
            </a:r>
            <a:endParaRPr b="0" lang="en-US" sz="28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ddle schools in our district include children in sixth through eighth grade.</a:t>
            </a:r>
            <a:endParaRPr b="0" lang="en-US" sz="28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820 middle school children in our distri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ndom Sampling Example</a:t>
            </a:r>
            <a:endParaRPr b="0" lang="en-US" sz="36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desired sample size.</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ould like to sample 325 students. </a:t>
            </a:r>
            <a:endParaRPr b="0" lang="en-US" sz="2400" spc="-1" strike="noStrike">
              <a:solidFill>
                <a:srgbClr val="000000"/>
              </a:solidFill>
              <a:latin typeface="Tahoma"/>
            </a:endParaRPr>
          </a:p>
          <a:p>
            <a:pPr marL="609480" indent="-609480">
              <a:spcBef>
                <a:spcPts val="700"/>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st all members of the population.</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generate a comprehensive list of all the middle school students. </a:t>
            </a:r>
            <a:endParaRPr b="0" lang="en-US" sz="2400" spc="-1" strike="noStrike">
              <a:solidFill>
                <a:srgbClr val="000000"/>
              </a:solidFill>
              <a:latin typeface="Tahoma"/>
            </a:endParaRPr>
          </a:p>
          <a:p>
            <a:pPr marL="609480" indent="-609480">
              <a:spcBef>
                <a:spcPts val="700"/>
              </a:spcBef>
              <a:buClr>
                <a:srgbClr val="3333cc"/>
              </a:buClr>
              <a:buSzPct val="6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member of the population is given a number.</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give each student a sequential number.</a:t>
            </a:r>
            <a:endParaRPr b="0" lang="en-US" sz="24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ndom Sampling Example</a:t>
            </a:r>
            <a:endParaRPr b="0" lang="en-US" sz="36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585000" indent="-585000">
              <a:spcBef>
                <a:spcPts val="799"/>
              </a:spcBef>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onsult a table of random numbers and pick an arbitrary number. </a:t>
            </a:r>
            <a:endParaRPr b="0" lang="en-US" sz="3200" spc="-1" strike="noStrike">
              <a:solidFill>
                <a:srgbClr val="000000"/>
              </a:solidFill>
              <a:latin typeface="Tahoma"/>
            </a:endParaRPr>
          </a:p>
          <a:p>
            <a:pPr lvl="1" marL="950760" indent="-511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xt has a table of random numbers.</a:t>
            </a:r>
            <a:endParaRPr b="0" lang="en-US" sz="2800" spc="-1" strike="noStrike">
              <a:solidFill>
                <a:srgbClr val="000000"/>
              </a:solidFill>
              <a:latin typeface="Tahoma"/>
            </a:endParaRPr>
          </a:p>
          <a:p>
            <a:pPr lvl="1" marL="950760" indent="-511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stical packages can generate a table.</a:t>
            </a:r>
            <a:endParaRPr b="0" lang="en-US" sz="2800" spc="-1" strike="noStrike">
              <a:solidFill>
                <a:srgbClr val="000000"/>
              </a:solidFill>
              <a:latin typeface="Tahoma"/>
            </a:endParaRPr>
          </a:p>
          <a:p>
            <a:pPr lvl="1" marL="950760" indent="-511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sites are available with tables of random numb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ndom Sampling Example</a:t>
            </a:r>
            <a:endParaRPr b="0" lang="en-US" sz="36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arbitrary number we have selected, we look at the last 3 digits because our needed sample contains 3 digit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include in our sample the person with the number corresponding to the number we have selected.</a:t>
            </a:r>
            <a:endParaRPr b="0" lang="en-US" sz="28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number selected is greater than 325 we ignore it and go to the next number.</a:t>
            </a:r>
            <a:endParaRPr b="0" lang="en-US" sz="2800" spc="-1" strike="noStrike">
              <a:solidFill>
                <a:srgbClr val="000000"/>
              </a:solidFill>
              <a:latin typeface="Tahoma"/>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ndom Sampling Example</a:t>
            </a:r>
            <a:endParaRPr b="0" lang="en-US" sz="36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ontinue to go through steps 6 and 7 until we have selected our entire sample of participa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a:t>
            </a:r>
            <a:endParaRPr b="0" lang="en-US" sz="36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atified sampling guarantees desired representation of relevant subgroups within the sample.</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lations can be divided into subgroups (strata).</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atified sampling should be used when a goal is to compare behavior of participants from subgroups.</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n our nutrition study we may be interested in gender or SES or ethnicity or other potential subgroup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a:t>
            </a:r>
            <a:endParaRPr b="0" lang="en-US" sz="36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ortional stratified sampling</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ed subgroups are represented in the sample in the same proportion as in the populatio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f 28% of a population of advanced science students are girls then the sample should be represented by 28% girl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n our nutrition study we may be interested in representation by SES. </a:t>
            </a: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a:t>
            </a:r>
            <a:endParaRPr b="0" lang="en-US" sz="36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ified sampling can be used to select equal-sized, nonproportional, samples from subgroups when subgroup comparisons are importa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gender, race, ability level, SE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5:</a:t>
            </a:r>
            <a:r>
              <a:rPr b="0" lang="en-US" sz="3600" spc="-1" strike="noStrike">
                <a:solidFill>
                  <a:srgbClr val="333399"/>
                </a:solidFill>
                <a:latin typeface="Tahoma"/>
              </a:rPr>
              <a:t> Selecting a Sample</a:t>
            </a:r>
            <a:endParaRPr b="0" lang="en-US" sz="3600" spc="-1" strike="noStrike">
              <a:solidFill>
                <a:srgbClr val="333399"/>
              </a:solidFill>
              <a:latin typeface="Tahoma"/>
            </a:endParaRPr>
          </a:p>
        </p:txBody>
      </p:sp>
      <p:sp>
        <p:nvSpPr>
          <p:cNvPr id="129" name="PlaceHolder 2"/>
          <p:cNvSpPr>
            <a:spLocks noGrp="1"/>
          </p:cNvSpPr>
          <p:nvPr>
            <p:ph/>
          </p:nvPr>
        </p:nvSpPr>
        <p:spPr>
          <a:xfrm>
            <a:off x="1219320" y="1905120"/>
            <a:ext cx="68580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the difference between sampling error and sample bias, and describe strategies for avoiding each.</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the sampling strategies commonly used in qualitative stud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 for Equal-Sized Groups</a:t>
            </a:r>
            <a:endParaRPr b="0" lang="en-US" sz="36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and define the population.</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820 middle school students are our population.</a:t>
            </a:r>
            <a:endParaRPr b="0" lang="en-US" sz="24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desired sample size.</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ould like to sample 100.</a:t>
            </a:r>
            <a:endParaRPr b="0" lang="en-US" sz="24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the variable and subgroups (strata).</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ould like an equal number of students representing athletes and non-athle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 for Equal-Sized Groups</a:t>
            </a:r>
            <a:endParaRPr b="0" lang="en-US" sz="36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Classify all members of the population as one of your identified groups.</a:t>
            </a:r>
            <a:endParaRPr b="0" lang="en-US" sz="3200" spc="-1" strike="noStrike">
              <a:solidFill>
                <a:srgbClr val="000000"/>
              </a:solidFill>
              <a:latin typeface="Tahoma"/>
            </a:endParaRPr>
          </a:p>
          <a:p>
            <a:pPr lvl="1" marL="941040" indent="-506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identify each student as either an athlete or non-athlete.</a:t>
            </a:r>
            <a:endParaRPr b="0" lang="en-US" sz="2800" spc="-1" strike="noStrike">
              <a:solidFill>
                <a:srgbClr val="000000"/>
              </a:solidFill>
              <a:latin typeface="Tahoma"/>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a:t>
            </a:r>
            <a:r>
              <a:rPr b="0" lang="en-US" sz="3200" spc="-1" strike="noStrike">
                <a:solidFill>
                  <a:srgbClr val="000000"/>
                </a:solidFill>
                <a:latin typeface="Tahoma"/>
              </a:rPr>
              <a:t>	</a:t>
            </a:r>
            <a:r>
              <a:rPr b="0" lang="en-US" sz="3200" spc="-1" strike="noStrike">
                <a:solidFill>
                  <a:srgbClr val="000000"/>
                </a:solidFill>
                <a:latin typeface="Tahoma"/>
              </a:rPr>
              <a:t>Randomly select an equal number of participants from each subgroup.</a:t>
            </a:r>
            <a:endParaRPr b="0" lang="en-US" sz="3200" spc="-1" strike="noStrike">
              <a:solidFill>
                <a:srgbClr val="000000"/>
              </a:solidFill>
              <a:latin typeface="Tahoma"/>
            </a:endParaRPr>
          </a:p>
          <a:p>
            <a:pPr lvl="1" marL="941040" indent="-506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use the random number table to select 50 from each 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portional Stratified Sampling</a:t>
            </a:r>
            <a:endParaRPr b="0" lang="en-US" sz="36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this same procedure to select a proportional stratified sample.</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for example our population includes 12% athletes we may not want equal groups but  instead may desire that our sample is 12% athletes.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we classify students into our subgroups we simply randomly select the appropriate percentage from each sub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a:t>
            </a:r>
            <a:endParaRPr b="0" lang="en-US" sz="36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luster sampling, intact groups but not individuals, are randomly selected.</a:t>
            </a:r>
            <a:endParaRPr b="0" lang="en-US" sz="3200" spc="-1" strike="noStrike">
              <a:solidFill>
                <a:srgbClr val="000000"/>
              </a:solidFill>
              <a:latin typeface="Tahoma"/>
            </a:endParaRPr>
          </a:p>
          <a:p>
            <a:pPr lvl="1" marL="668520" indent="-2570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g., An example cluster could be schools, classrooms, communities, or counties.</a:t>
            </a:r>
            <a:endParaRPr b="0" lang="en-US" sz="28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uster sampling may be used when it is not possible to list all members of a population or when the population is spread out or large.</a:t>
            </a:r>
            <a:endParaRPr b="0" lang="en-US" sz="32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a:t>
            </a:r>
            <a:endParaRPr b="0" lang="en-US" sz="36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uster sampling may be more convenient and may take less time than random or stratified sampl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uster sampling is found in many studies when it is hard to sample individuals within a gro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a:t>
            </a:r>
            <a:endParaRPr b="0" lang="en-US" sz="36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many drawbacks to cluster sampling.</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uster sampling is not representativ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ten-used statistical methods are not appropriate for data from studies that employed cluster sampling.</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 Example</a:t>
            </a:r>
            <a:endParaRPr b="0" lang="en-US" sz="36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and define population.</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ddle school students in our state are our population.</a:t>
            </a:r>
            <a:endParaRPr b="0" lang="en-US" sz="28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desired sample size.</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ould like to sample 1500 students.</a:t>
            </a:r>
            <a:endParaRPr b="0" lang="en-US" sz="28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and define a logical cluster</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s are a logical cluster.</a:t>
            </a:r>
            <a:endParaRPr b="0" lang="en-US" sz="28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 Example</a:t>
            </a:r>
            <a:endParaRPr b="0" lang="en-US" sz="36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st all clusters</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obtain a list of all the middle schools in the State.</a:t>
            </a:r>
            <a:endParaRPr b="0" lang="en-US" sz="24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imate average number of participants per cluster.</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ur State the average number of students in each middle school is 250.</a:t>
            </a:r>
            <a:endParaRPr b="0" lang="en-US" sz="24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number of clusters needed</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our desired sample is 1500 we need to randomly select 6 schoo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 Example</a:t>
            </a:r>
            <a:endParaRPr b="0" lang="en-US" sz="36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ndomly select the needed number of clusters.</a:t>
            </a:r>
            <a:endParaRPr b="0" lang="en-US" sz="3200" spc="-1" strike="noStrike">
              <a:solidFill>
                <a:srgbClr val="000000"/>
              </a:solidFill>
              <a:latin typeface="Tahoma"/>
            </a:endParaRPr>
          </a:p>
          <a:p>
            <a:pPr lvl="1" marL="990720" indent="-533520">
              <a:spcBef>
                <a:spcPts val="700"/>
              </a:spcBef>
              <a:buClr>
                <a:srgbClr val="ff0000"/>
              </a:buClr>
              <a:buSzPct val="5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randomly select the six schools.</a:t>
            </a:r>
            <a:endParaRPr b="0" lang="en-US" sz="2800" spc="-1" strike="noStrike">
              <a:solidFill>
                <a:srgbClr val="000000"/>
              </a:solidFill>
              <a:latin typeface="Tahoma"/>
            </a:endParaRPr>
          </a:p>
          <a:p>
            <a:pPr marL="609480" indent="-609480">
              <a:spcBef>
                <a:spcPts val="799"/>
              </a:spcBef>
              <a:buClr>
                <a:srgbClr val="3333cc"/>
              </a:buClr>
              <a:buSzPct val="6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 in your study all the participants in each selected cluster.</a:t>
            </a:r>
            <a:endParaRPr b="0" lang="en-US" sz="3200" spc="-1" strike="noStrike">
              <a:solidFill>
                <a:srgbClr val="000000"/>
              </a:solidFill>
              <a:latin typeface="Tahoma"/>
            </a:endParaRPr>
          </a:p>
          <a:p>
            <a:pPr lvl="1" marL="990720" indent="-533520">
              <a:spcBef>
                <a:spcPts val="700"/>
              </a:spcBef>
              <a:buClr>
                <a:srgbClr val="ff0000"/>
              </a:buClr>
              <a:buSzPct val="5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include all the students in each of the six schools in our stud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atic Sampling</a:t>
            </a:r>
            <a:endParaRPr b="0" lang="en-US" sz="36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ystematic sampling we select every K</a:t>
            </a:r>
            <a:r>
              <a:rPr b="0" lang="en-US" sz="2800" spc="-1" strike="noStrike" baseline="30000">
                <a:solidFill>
                  <a:srgbClr val="000000"/>
                </a:solidFill>
                <a:latin typeface="Tahoma"/>
              </a:rPr>
              <a:t>th</a:t>
            </a:r>
            <a:r>
              <a:rPr b="0" lang="en-US" sz="2800" spc="-1" strike="noStrike">
                <a:solidFill>
                  <a:srgbClr val="000000"/>
                </a:solidFill>
                <a:latin typeface="Tahoma"/>
              </a:rPr>
              <a:t> individual from a lis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st includes all the members of a popul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is determined by dividing the number of individuals by the number of participants desired in a sampl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domly ordered lists can be used in systematic sampl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ntitative Sampling</a:t>
            </a:r>
            <a:endParaRPr b="0" lang="en-US" sz="36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ing: The process of selecting a  number of participants for a stud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 A sample is made up of    individuals, events, or items, selected      from the popu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sample is well-selected the results       will be </a:t>
            </a:r>
            <a:r>
              <a:rPr b="0" i="1" lang="en-US" sz="2800" spc="-1" strike="noStrike">
                <a:solidFill>
                  <a:srgbClr val="000000"/>
                </a:solidFill>
                <a:latin typeface="Tahoma"/>
              </a:rPr>
              <a:t>generalizable</a:t>
            </a:r>
            <a:r>
              <a:rPr b="0" lang="en-US" sz="2800" spc="-1" strike="noStrike">
                <a:solidFill>
                  <a:srgbClr val="000000"/>
                </a:solidFill>
                <a:latin typeface="Tahoma"/>
              </a:rPr>
              <a:t> to the popul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atic Sampling Example</a:t>
            </a:r>
            <a:endParaRPr b="0" lang="en-US" sz="36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and define population.</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ddle school students in our school are our population.</a:t>
            </a:r>
            <a:endParaRPr b="0" lang="en-US" sz="24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desired sample size.</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ould like to sample 50 students.</a:t>
            </a:r>
            <a:endParaRPr b="0" lang="en-US" sz="24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list all students in the school</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ight randomly order the list.</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 bias that may be introduced by other listing procedu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atic Sampling Example</a:t>
            </a:r>
            <a:endParaRPr b="0" lang="en-US" sz="36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divide the number of students in our population by the number of participants that we need in our sample. </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350 in the school/50 students therefore K=7</a:t>
            </a:r>
            <a:endParaRPr b="0" lang="en-US" sz="2400" spc="-1" strike="noStrike">
              <a:solidFill>
                <a:srgbClr val="000000"/>
              </a:solidFill>
              <a:latin typeface="Tahoma"/>
            </a:endParaRPr>
          </a:p>
          <a:p>
            <a:pPr marL="609480" indent="-609480">
              <a:spcBef>
                <a:spcPts val="700"/>
              </a:spcBef>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start in a random place on the li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atic Sampling Example</a:t>
            </a:r>
            <a:endParaRPr b="0" lang="en-US" sz="36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take every K</a:t>
            </a:r>
            <a:r>
              <a:rPr b="0" lang="en-US" sz="2800" spc="-1" strike="noStrike" baseline="30000">
                <a:solidFill>
                  <a:srgbClr val="000000"/>
                </a:solidFill>
                <a:latin typeface="Tahoma"/>
              </a:rPr>
              <a:t>th </a:t>
            </a:r>
            <a:r>
              <a:rPr b="0" lang="en-US" sz="2800" spc="-1" strike="noStrike">
                <a:solidFill>
                  <a:srgbClr val="000000"/>
                </a:solidFill>
                <a:latin typeface="Tahoma"/>
              </a:rPr>
              <a:t>(in this case 7</a:t>
            </a:r>
            <a:r>
              <a:rPr b="0" lang="en-US" sz="2800" spc="-1" strike="noStrike" baseline="30000">
                <a:solidFill>
                  <a:srgbClr val="000000"/>
                </a:solidFill>
                <a:latin typeface="Tahoma"/>
              </a:rPr>
              <a:t>th</a:t>
            </a:r>
            <a:r>
              <a:rPr b="0" lang="en-US" sz="2800" spc="-1" strike="noStrike">
                <a:solidFill>
                  <a:srgbClr val="000000"/>
                </a:solidFill>
                <a:latin typeface="Tahoma"/>
              </a:rPr>
              <a:t>) name on the list until we have selected our 50 participants.</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come to the end of the list then we simply go to the top and continue using our strategy of every K</a:t>
            </a:r>
            <a:r>
              <a:rPr b="0" lang="en-US" sz="2800" spc="-1" strike="noStrike" baseline="30000">
                <a:solidFill>
                  <a:srgbClr val="000000"/>
                </a:solidFill>
                <a:latin typeface="Tahoma"/>
              </a:rPr>
              <a:t>th</a:t>
            </a:r>
            <a:r>
              <a:rPr b="0" lang="en-US" sz="2800" spc="-1" strike="noStrike">
                <a:solidFill>
                  <a:srgbClr val="000000"/>
                </a:solidFill>
                <a:latin typeface="Tahoma"/>
              </a:rPr>
              <a:t> na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termining Sample Size</a:t>
            </a:r>
            <a:endParaRPr b="0" lang="en-US" sz="36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ot easy to determine how large a sample should b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sample is too small it will limit generalizabil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population is very large, you need less percentage of the population for your sample to be representativ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population is small, sample the entire population.</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termining Sample Size</a:t>
            </a:r>
            <a:endParaRPr b="0" lang="en-US" sz="3600" spc="-1" strike="noStrike">
              <a:solidFill>
                <a:srgbClr val="333399"/>
              </a:solidFill>
              <a:latin typeface="Tahoma"/>
            </a:endParaRPr>
          </a:p>
        </p:txBody>
      </p:sp>
      <p:sp>
        <p:nvSpPr>
          <p:cNvPr id="193" name="PlaceHolder 2"/>
          <p:cNvSpPr>
            <a:spLocks noGrp="1"/>
          </p:cNvSpPr>
          <p:nvPr>
            <p:ph/>
          </p:nvPr>
        </p:nvSpPr>
        <p:spPr>
          <a:xfrm>
            <a:off x="1182600" y="2017800"/>
            <a:ext cx="77328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sample is very large, 400 participants can be sampl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populations between 100 and 5000, sample a percentage of the popu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ly, sample as much of a population as you are able to samp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ing Error and Sampling Bias</a:t>
            </a:r>
            <a:endParaRPr b="0" lang="en-US" sz="36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ing Error is chance variation that occurs when a sample does not represent the popu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ing Bias is systematic sampling err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n a study of principals’ opinions of effective leadership styles, sampling bias may occur if you sampled principals at a leadership confer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lecting a Non-Random Sample</a:t>
            </a:r>
            <a:endParaRPr b="0" lang="en-US" sz="36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Probability sampling or Nonrandom sampling: At times researchers can not use random sampling.</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nrandom sampling is used it often becomes challenging to describe the samp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as may also be a concern in nonrandom sampl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Non-Random Sampling</a:t>
            </a:r>
            <a:endParaRPr b="0" lang="en-US" sz="36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nience Sampling</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venience sampling is also called haphazard or accidental sampling.</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venience sampling selects whoever is available. </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venience sampling introduces bias. Those available may not be representative</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 a study of community members’ opinions about public transportation, depending upon where you sampled people from they might have very different opinions.  If you sampled people at a bus stop, for example, you might not get representative da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Non-Random Sampling</a:t>
            </a:r>
            <a:endParaRPr b="0" lang="en-US" sz="36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iv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posive sampling is also called judgment sampl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posive sampling entails selecting a sample believed to be representativ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Non-Random Sampling</a:t>
            </a:r>
            <a:endParaRPr b="0" lang="en-US" sz="36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iv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ive sampling introduces bias because the researcher may be incorrect in her belief that the sample is representative.</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f a researcher wanted to study differences between expert and novice teachers and selected participants based upon judgments regarding which teachers were deemed expert.</a:t>
            </a:r>
            <a:endParaRPr b="0" lang="en-US" sz="2400" spc="-1" strike="noStrike">
              <a:solidFill>
                <a:srgbClr val="000000"/>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ing a Population</a:t>
            </a:r>
            <a:endParaRPr b="0" lang="en-US" sz="3600" spc="-1" strike="noStrike">
              <a:solidFill>
                <a:srgbClr val="333399"/>
              </a:solidFill>
              <a:latin typeface="Tahoma"/>
            </a:endParaRPr>
          </a:p>
        </p:txBody>
      </p:sp>
      <p:sp>
        <p:nvSpPr>
          <p:cNvPr id="133" name="PlaceHolder 2"/>
          <p:cNvSpPr>
            <a:spLocks noGrp="1"/>
          </p:cNvSpPr>
          <p:nvPr>
            <p:ph/>
          </p:nvPr>
        </p:nvSpPr>
        <p:spPr>
          <a:xfrm>
            <a:off x="1219320" y="1828800"/>
            <a:ext cx="670536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population</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lations may be any size and cover large geographical distances.</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ntire population is rarely available.</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 population: Population to which the researcher would ideally like to generalize result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ible population (Available population): Population from which researcher can realistically select particip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Non-Random Sampling</a:t>
            </a:r>
            <a:endParaRPr b="0" lang="en-US" sz="36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ota</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ota sampling occurs when the researcher selects a sample based on a required number of individuals with particular characteristics.</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ota sampling is often used in wide-scale survey research.</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as is introduced in several ways when quota sampling is used, including through accessibility.</a:t>
            </a:r>
            <a:endParaRPr b="0" lang="en-US" sz="24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 researcher may need to have 300 men ages 40-50 in a study.  He would sample until he had obtained the 300 men.</a:t>
            </a:r>
            <a:endParaRPr b="0" lang="en-US" sz="2000" spc="-1" strike="noStrike">
              <a:solidFill>
                <a:srgbClr val="000000"/>
              </a:solidFill>
              <a:latin typeface="Tahoma"/>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ing in Qualitative Research</a:t>
            </a:r>
            <a:endParaRPr b="0" lang="en-US" sz="36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qualitative sampling a small number of participants are selected that will be good informants.</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informants are thoughtful and reflective.</a:t>
            </a:r>
            <a:endParaRPr b="0" lang="en-US" sz="28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informants communicate effectively.</a:t>
            </a:r>
            <a:endParaRPr b="0" lang="en-US" sz="28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informants are comfortable with the researcher and within the research s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ing in Qualitative Research</a:t>
            </a:r>
            <a:endParaRPr b="0" lang="en-US" sz="3600" spc="-1" strike="noStrike">
              <a:solidFill>
                <a:srgbClr val="333399"/>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itative samples are smaller and less representat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izability and representativeness are not the same concern in qualitative research as they are in quantitative research.</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ing in Qualitative Research</a:t>
            </a:r>
            <a:endParaRPr b="0" lang="en-US" sz="3600" spc="-1" strike="noStrike">
              <a:solidFill>
                <a:srgbClr val="333399"/>
              </a:solidFill>
              <a:latin typeface="Tahoma"/>
            </a:endParaRPr>
          </a:p>
        </p:txBody>
      </p:sp>
      <p:sp>
        <p:nvSpPr>
          <p:cNvPr id="2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 size in qualitative research is determined by the following:</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ange of participants available and the degree to which range in participants is consistent with what is found in the popul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nts may be sampled until data saturation.  Data saturation occurs when additional participants are not providing new inform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tative Sampling</a:t>
            </a:r>
            <a:endParaRPr b="0" lang="en-US" sz="3600" spc="-1" strike="noStrike">
              <a:solidFill>
                <a:srgbClr val="333399"/>
              </a:solidFill>
              <a:latin typeface="Tahoma"/>
            </a:endParaRPr>
          </a:p>
        </p:txBody>
      </p:sp>
      <p:sp>
        <p:nvSpPr>
          <p:cNvPr id="213" name="PlaceHolder 2"/>
          <p:cNvSpPr>
            <a:spLocks noGrp="1"/>
          </p:cNvSpPr>
          <p:nvPr>
            <p:ph/>
          </p:nvPr>
        </p:nvSpPr>
        <p:spPr>
          <a:xfrm>
            <a:off x="1143000" y="1828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nsity sampling occurs when the researcher selects participants who represent different levels of the research topic.</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 researcher might select some new administrators and some more experienced ones for his stud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tative Sampling</a:t>
            </a:r>
            <a:endParaRPr b="0" lang="en-US" sz="3600" spc="-1" strike="noStrike">
              <a:solidFill>
                <a:srgbClr val="333399"/>
              </a:solidFill>
              <a:latin typeface="Tahoma"/>
            </a:endParaRPr>
          </a:p>
        </p:txBody>
      </p:sp>
      <p:sp>
        <p:nvSpPr>
          <p:cNvPr id="215" name="PlaceHolder 2"/>
          <p:cNvSpPr>
            <a:spLocks noGrp="1"/>
          </p:cNvSpPr>
          <p:nvPr>
            <p:ph/>
          </p:nvPr>
        </p:nvSpPr>
        <p:spPr>
          <a:xfrm>
            <a:off x="1143000" y="1828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ogeneous sampling occurs when the researcher selects participants who represent a similar experienc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 researcher might select only middle class women whose mother’s stayed at home during the school da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tative Sampling</a:t>
            </a:r>
            <a:endParaRPr b="0" lang="en-US" sz="36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iterion sampling occurs when the researcher selects cases that fit a certain criteria.</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 researcher may select only those participants who are first generation law school stud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tative Sampling</a:t>
            </a:r>
            <a:endParaRPr b="0" lang="en-US" sz="36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nowball sampling occurs when the researcher selects new participants based upon other participant’s suggestions regarding who else might be studied.</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 researcher might be interested in high school students who are not in school activities but are involved in out-of-school activities. Once she has identified some participants she may ask them if they know of others who may fit her criteri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tative Sampling</a:t>
            </a:r>
            <a:endParaRPr b="0" lang="en-US" sz="36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dom-purposive sampling occurs when the researcher generates a larger than needed potential sample and randomly selects from that sampl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 researcher might purposively sample teachers within a specific district and then randomly select 3 teachers to represent the samp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83772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arget &amp; Accessible Populations</a:t>
            </a:r>
            <a:endParaRPr b="0" lang="en-US" sz="3600" spc="-1" strike="noStrike">
              <a:solidFill>
                <a:srgbClr val="333399"/>
              </a:solidFill>
              <a:latin typeface="Tahoma"/>
            </a:endParaRPr>
          </a:p>
        </p:txBody>
      </p:sp>
      <p:sp>
        <p:nvSpPr>
          <p:cNvPr id="135" name="PlaceHolder 2"/>
          <p:cNvSpPr>
            <a:spLocks noGrp="1"/>
          </p:cNvSpPr>
          <p:nvPr>
            <p:ph/>
          </p:nvPr>
        </p:nvSpPr>
        <p:spPr>
          <a:xfrm>
            <a:off x="1143000" y="2057040"/>
            <a:ext cx="6781680" cy="3809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good sample is critical for quantitative researchers.  The </a:t>
            </a:r>
            <a:r>
              <a:rPr b="0" i="1" lang="en-US" sz="2800" spc="-1" strike="noStrike">
                <a:solidFill>
                  <a:srgbClr val="000000"/>
                </a:solidFill>
                <a:latin typeface="Tahoma"/>
              </a:rPr>
              <a:t>representativeness</a:t>
            </a:r>
            <a:r>
              <a:rPr b="0" lang="en-US" sz="2800" spc="-1" strike="noStrike">
                <a:solidFill>
                  <a:srgbClr val="000000"/>
                </a:solidFill>
                <a:latin typeface="Tahoma"/>
              </a:rPr>
              <a:t> of the sample determines the </a:t>
            </a:r>
            <a:r>
              <a:rPr b="0" i="1" lang="en-US" sz="2800" spc="-1" strike="noStrike">
                <a:solidFill>
                  <a:srgbClr val="000000"/>
                </a:solidFill>
                <a:latin typeface="Tahoma"/>
              </a:rPr>
              <a:t>generalizability</a:t>
            </a:r>
            <a:r>
              <a:rPr b="0" lang="en-US" sz="2800" spc="-1" strike="noStrike">
                <a:solidFill>
                  <a:srgbClr val="000000"/>
                </a:solidFill>
                <a:latin typeface="Tahoma"/>
              </a:rPr>
              <a:t> of the finding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83772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arget &amp; Accessible Populations</a:t>
            </a:r>
            <a:endParaRPr b="0" lang="en-US" sz="3600" spc="-1" strike="noStrike">
              <a:solidFill>
                <a:srgbClr val="333399"/>
              </a:solidFill>
              <a:latin typeface="Tahoma"/>
            </a:endParaRPr>
          </a:p>
        </p:txBody>
      </p:sp>
      <p:sp>
        <p:nvSpPr>
          <p:cNvPr id="137" name="PlaceHolder 2"/>
          <p:cNvSpPr>
            <a:spLocks noGrp="1"/>
          </p:cNvSpPr>
          <p:nvPr>
            <p:ph/>
          </p:nvPr>
        </p:nvSpPr>
        <p:spPr>
          <a:xfrm>
            <a:off x="1066680" y="1981080"/>
            <a:ext cx="6934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Consider that you are interested in high school juniors’ perceptions of admission criteria for Ivy League schools. Your target population would be high school juniors in the United States but the accessible population would be much different.  Although you could conduct the study with the target population, the study would require extensive resources and as such, an accessible population would likely be studied instea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lecting a Random Sample</a:t>
            </a:r>
            <a:endParaRPr b="0" lang="en-US" sz="3600" spc="-1" strike="noStrike">
              <a:solidFill>
                <a:srgbClr val="333399"/>
              </a:solidFill>
              <a:latin typeface="Tahoma"/>
            </a:endParaRPr>
          </a:p>
        </p:txBody>
      </p:sp>
      <p:sp>
        <p:nvSpPr>
          <p:cNvPr id="139"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ty Sampling:  These techniques permit the researcher to specify the probability that each member of the population has in being selected for the sampl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Random Sampl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ified Sampl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uster Sampl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atic Sampling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mple Random Sampling</a:t>
            </a:r>
            <a:endParaRPr b="0" lang="en-US" sz="3600" spc="-1" strike="noStrike">
              <a:solidFill>
                <a:srgbClr val="333399"/>
              </a:solidFill>
              <a:latin typeface="Tahoma"/>
            </a:endParaRPr>
          </a:p>
        </p:txBody>
      </p:sp>
      <p:sp>
        <p:nvSpPr>
          <p:cNvPr id="141"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dividuals in the defined population have an equal and independent chance of being selected for the samp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dom sampling is the best way to possibly obtain a representative sampl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eps in Simple Random Sampling</a:t>
            </a:r>
            <a:endParaRPr b="0" lang="en-US" sz="3600" spc="-1" strike="noStrike">
              <a:solidFill>
                <a:srgbClr val="333399"/>
              </a:solidFill>
              <a:latin typeface="Tahoma"/>
            </a:endParaRPr>
          </a:p>
        </p:txBody>
      </p:sp>
      <p:sp>
        <p:nvSpPr>
          <p:cNvPr id="143"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and define the population.</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the desired sample size.</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st all members of the population.</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 all individuals a consecutive number from zero to the required number.</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n arbitrary number in the table of random numb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a Robb</cp:lastModifiedBy>
  <dcterms:modified xsi:type="dcterms:W3CDTF">2008-05-15T20:33:32Z</dcterms:modified>
  <cp:revision>56</cp:revision>
  <dc:subject/>
  <dc:title>AutoCAD Architecture 2008: Part I: Getting Started</dc:title>
</cp:coreProperties>
</file>